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6B51-6389-48BC-A61F-44660DA334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45ED-BC2A-4323-91A9-D05FD4E1E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C75-70D5-47E3-944F-9B8C1EF5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335-4C38-4182-A555-C657CC94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797-FC16-443B-B21C-6767C3B4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A92-3414-4FCA-8EA7-4B9DEFD8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5990-6F31-47EF-9D3F-DAA5B797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85D8-EC92-4434-840E-5AD0CEF6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DB87-44CB-4E49-92B0-31D19E06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43FF-1A98-4B4F-A1A3-10E3C308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B928-2DB5-43D7-9F41-92E614AD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5E61-BB42-4C07-8226-6B1774A6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06EC-0A09-48CA-B75D-9973B9AA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A37-3F1A-4524-AFC5-88AD2170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6888-62BC-441B-BAB1-B99208E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3876-F311-498E-A06C-D24D1111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A0DD-5DD1-4DCF-8627-0B95385D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6A35-9E90-4392-8310-7468A862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59CF-9615-4AA8-B467-7B717E30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5013-163A-4D53-BEB0-61D2D437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1BB0-01E7-416B-8712-F6341B87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1CA9-C085-4698-BC44-26BA6020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6FC0A-4EB7-406F-8327-9F6F4269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39F9-82B0-4292-8A6D-05131A7B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603-49A1-4FD2-8FCA-646FFA5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09AB-88AF-4BB8-9443-D0A7C73F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56A9-92E7-4C46-931F-F14C5186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B8A2-64F7-404E-8D09-4F9121E7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4849-9C93-46F8-AE5B-C8E2D04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95E0-BB37-481E-A3E7-CDB85CFE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4E8C-EF1C-4831-8CB4-E6DA8A2F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02541-229C-4925-93C8-880B7ACA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CD82-7D07-415F-AB76-54C91D1D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3D34-4638-4D64-AD3D-475D9CBD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D794-F6C7-4188-B721-FFD1EB10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CC7-6E7F-45CC-B636-1FFC6E68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326C-286F-4AA7-A6AA-85F36C31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C247-ACDC-4FA0-88F9-039AA853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520A-F6B7-4674-8BF6-0ECB21A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719A2-EE1B-48FC-ACFB-199A5806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9F40-302F-4186-BFAB-E851A0F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8D88-CA8F-485C-B6C6-ADDCE8B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C60A-25CB-4CF2-8F63-25448922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5AA9-34AF-4D9E-BE89-6A0FE012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232C9-3E1E-4F6A-8E68-9107DCE9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99B-18E1-4B6B-9117-F5D51103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DA1-4F9A-4F50-990F-4F2B0118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632-DD05-4574-9B5C-DEEBCD3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F35-A8B9-40AA-80D6-619A5660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794-9F53-4574-8C87-B248820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9F2A-CD3E-49A0-843F-1C2B74E44E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BC37-6592-470A-B415-2341A757545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587-E478-4A59-BC6F-9DE89C58344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F2ED-7312-4014-A01A-D0DD1F5072F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C:\Users\Оксана\Desktop\УЧИТЕЛЬ ГОДА 2025\беспилотники\L0--KWZLoBU.jpg"/>
          <p:cNvPicPr/>
          <p:nvPr/>
        </p:nvPicPr>
        <p:blipFill>
          <a:blip r:embed="rId1"/>
          <a:stretch/>
        </p:blipFill>
        <p:spPr>
          <a:xfrm>
            <a:off x="324000" y="28116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2" descr="C:\Users\Оксана\Desktop\УЧИТЕЛЬ ГОДА 2025\беспилотники\suMFcTqR6FU.jpg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C:\Users\Оксана\Desktop\УЧИТЕЛЬ ГОДА 2025\беспилотники\m-98c6f1SCE.jpg"/>
          <p:cNvPicPr/>
          <p:nvPr/>
        </p:nvPicPr>
        <p:blipFill>
          <a:blip r:embed="rId1"/>
          <a:stretch/>
        </p:blipFill>
        <p:spPr>
          <a:xfrm>
            <a:off x="250920" y="0"/>
            <a:ext cx="87138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Users\Оксана\Desktop\УЧИТЕЛЬ ГОДА 2025\беспилотники\oxVAiTP1ZYk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C:\Users\Оксана\Desktop\УЧИТЕЛЬ ГОДА 2025\беспилотники\kdh-804kAyI.jpg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08T19:23:44Z</dcterms:created>
  <dc:creator>Оксана</dc:creator>
  <dc:description/>
  <dc:language>en-US</dc:language>
  <cp:lastModifiedBy>sch10-17</cp:lastModifiedBy>
  <dcterms:modified xsi:type="dcterms:W3CDTF">2025-09-24T09:34:42Z</dcterms:modified>
  <cp:revision>1</cp:revision>
  <dc:subject/>
  <dc:title>Презентация PowerPoint</dc:title>
</cp:coreProperties>
</file>